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9C8C-4692-4845-B835-0B66C613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E787-4C9C-44DB-957F-3494DB8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63F0-708C-4D82-862D-47D04B12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22A8-2E59-46F2-A50A-F1B59593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C4A8-6A95-435A-8665-78BCFBB3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C367-EF9E-4F84-B0ED-E0AACA5C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922-809E-4676-B3D1-7DD646B5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EC4-8531-4393-8E37-CFEBE579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C91-30B5-4B24-B9C3-E542D5C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B395-C02A-4823-93C4-F3CD0D9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EF5C-F978-43DA-9C43-AD452C6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69DD-E0F9-4A92-B0B2-9ECF3FD3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0A2-602A-4458-9AD2-ED72EBC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F6E9-0417-42ED-8D51-7FA0BE56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0D24-DD23-4D71-971D-082C7927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D18-8336-4746-B171-C9889AD0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E6D6-9B8A-43E7-B31E-8F61EEA8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B360-7D4A-4603-9B8B-296664A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D3A9-2AB7-4A42-AD07-3DB98273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6D8B-33AC-41BE-BA1B-A611C3D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95B3-3C87-4F7F-83EB-4D47FBDB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9387-B037-4336-9343-27F291B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E023-AACE-4155-9013-48985ED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C3B8-DA95-472C-9A46-51E08DA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9D8D-9C9C-4857-8F03-80B528EB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AF09-F11E-44C1-A6AB-817D482204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00"/>
                </a:solidFill>
                <a:uFillTx/>
                <a:latin typeface="American Typewriter"/>
              </a:rPr>
              <a:t>ESEA: “The” Federal Role in K-12 Education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91440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65: 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focus: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disadvantaged stud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68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dded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igrant students and EL stud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1973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</a:t>
            </a:r>
            <a:r>
              <a:rPr b="0" i="1" lang="en-US" sz="1800" spc="-1" strike="noStrike">
                <a:solidFill>
                  <a:srgbClr val="ffffff"/>
                </a:solidFill>
                <a:latin typeface="American Typewriter"/>
              </a:rPr>
              <a:t>San Antonio v. Rodriguez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no right to an education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78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focus school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-wide spend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81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troduced consolidation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nd block gra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1988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tandardized tests to measure student perform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1994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dded 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waivers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 and “continuous improvement” content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tandard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2002:</a:t>
            </a:r>
            <a:r>
              <a:rPr b="0" lang="en-US" sz="1800" spc="-1" strike="noStrike">
                <a:solidFill>
                  <a:srgbClr val="ffff00"/>
                </a:solidFill>
                <a:latin typeface="American Typewriter"/>
              </a:rPr>
              <a:t> NCLB approach: 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uniform accountability (100% AYP by 2014);  measure of basic skills (AMOs on reading, math, and  ELP); subgroup student data; HQT; SES; school choice; turnaround mod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6248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27432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ffff00"/>
                </a:solidFill>
                <a:uFillTx/>
                <a:latin typeface="American Typewriter"/>
              </a:rPr>
              <a:t>Range of Responses to NCLB Balloon Payments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00400" y="60948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All states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facing 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NCLB “balloon payments”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n 2013-14 (with almost half back loading)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All students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roficient in ELA and math; and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All schools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making AYP by 2014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2011 Senate </a:t>
            </a: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bipartisan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ESEA reauthorization rejected by civil rights organizations because of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hift from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100% accountability with interventions for all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to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undefined annual progress goals and interventions for some (capped by percentages)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2013 Senate and House </a:t>
            </a:r>
            <a:r>
              <a:rPr b="0" i="1" lang="en-US" sz="1600" spc="-1" strike="noStrike">
                <a:solidFill>
                  <a:srgbClr val="ffffff"/>
                </a:solidFill>
                <a:latin typeface="American Typewriter"/>
              </a:rPr>
              <a:t>partisan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reauthorization attemp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n late-2011, the Obama Administration “We Can’t Wait”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The country is on track to see </a:t>
            </a:r>
            <a:r>
              <a:rPr b="0" lang="en-US" sz="1600" spc="-1" strike="noStrike">
                <a:solidFill>
                  <a:srgbClr val="ffff00"/>
                </a:solidFill>
                <a:latin typeface="American Typewriter"/>
              </a:rPr>
              <a:t>82% of its schools labeled ‘failing’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this year”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2438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2743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 u="sng">
                <a:solidFill>
                  <a:srgbClr val="ffff00"/>
                </a:solidFill>
                <a:uFillTx/>
                <a:latin typeface="American Typewriter"/>
              </a:rPr>
              <a:t>Waiver Authori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ection 9401 of ESEA grants the ED Secretary has authority to issue waivers of certain requirements of ESEA for states and local education agencies for up to 4 year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ection 9401, however, does NOT allow the ED Secretary to waive requirements related to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aintenance of effort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omparability of services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upplement, not supplant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arental participation and involvement; 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ivil rights requirements like Title III (ELL students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In 9/2011, ED invited states to submit flexibility applications, under set guidelines, to waive 10 aspects of ESEA law and regulations including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Extending AYP Balloon Payments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Concentrating School Improvements Corrective Action at the Bottom;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Fostering Next Generation Teacher Evaluation Systems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merican Typewriter"/>
              </a:rPr>
              <a:t>ESEA 2011 Flexibility Bargai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286000"/>
          <a:ext cx="8229600" cy="4079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merican Typewriter"/>
                        </a:rPr>
                        <a:t>Replac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solidFill>
                      <a:srgbClr val="aa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merican Typewriter"/>
                        </a:rPr>
                        <a:t>With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solidFill>
                      <a:srgbClr val="aacae2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Current AMOs toward 2013-14 AYP deadline and annual report cards cast in terms of AY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New “ambitious, but achievable” AMOs in ELA and math aligned with College- and Career Readiness standards and assessments and revised reports cards cast  in terms of new AM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School improvement, correct action, and restructuring sanctions and repor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-and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Funds used for Public School Choice and Free Tutoring Servic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Investments in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merican Typewriter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merican Typewriter"/>
                        </a:rPr>
                        <a:t>Priority School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(lowest performing 5%) with Turnaround Princip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merican Typewriter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merican Typewriter"/>
                        </a:rPr>
                        <a:t>Focus School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(10 percent with largest achievement gaps between subgroups or HS graduating fewer than 60% of student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merican Typewriter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merican Typewriter"/>
                        </a:rPr>
                        <a:t>Reward School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(high performing or high progress schoo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HQT improvement pla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a5c6de"/>
                      </a:solidFill>
                    </a:lnL>
                    <a:lnR>
                      <a:noFill/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merican Typewriter"/>
                        </a:rPr>
                        <a:t>More meaningful” evaluation teacher evaluation systems and supports based on student perform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a5c6de"/>
                      </a:solidFill>
                    </a:lnR>
                    <a:lnT w="4320">
                      <a:solidFill>
                        <a:srgbClr val="a5c6de"/>
                      </a:solidFill>
                    </a:lnT>
                    <a:lnB w="4320">
                      <a:solidFill>
                        <a:srgbClr val="a5c6d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 u="sng">
                <a:solidFill>
                  <a:srgbClr val="ffff00"/>
                </a:solidFill>
                <a:uFillTx/>
                <a:latin typeface="American Typewriter"/>
              </a:rPr>
              <a:t>Three Rounds of 2011Waiver Applica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Of 53 SEAs, 47 states and DC, PR, and the Bureau of Indian Education applied (VT withdrew and IA rejected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Nov. 20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Feb. 2012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Sept. 2012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Blue = Approve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Green = Pendin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Range of Applications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Implementation “Details”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NM w/ 3 pages to MN with 37 page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Professional Development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GA’s multiple year through TV and FL/NM’s new teachers firs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Exiting Priority Status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MA’s multiple measures and MN’s out of bottom quartile for 2 years in a row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EL Students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CO’s English language proficiency in new accountability index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merican Typewriter"/>
              </a:rPr>
              <a:t>Graduation Rates: </a:t>
            </a:r>
            <a:r>
              <a:rPr b="0" lang="en-US" sz="1400" spc="-1" strike="noStrike">
                <a:solidFill>
                  <a:srgbClr val="ffffff"/>
                </a:solidFill>
                <a:latin typeface="American Typewriter"/>
              </a:rPr>
              <a:t>IN 30% of index to KY 14% of index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419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merican Typewriter"/>
              </a:rPr>
              <a:t>5 Main Concerns with 2011 Waiv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Under-engagement</a:t>
            </a:r>
            <a:r>
              <a:rPr b="1" lang="en-US" sz="1600" spc="-1" strike="noStrike">
                <a:solidFill>
                  <a:srgbClr val="ffff00"/>
                </a:solidFill>
                <a:latin typeface="American Typewriter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egligible engagement with civil rights and minority communities prior to applic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Under-representation</a:t>
            </a:r>
            <a:r>
              <a:rPr b="1" lang="en-US" sz="1600" spc="-1" strike="noStrike">
                <a:solidFill>
                  <a:srgbClr val="ffff00"/>
                </a:solidFill>
                <a:latin typeface="American Typewriter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dvocates for student groups missing from peer review panels except for special education and EL studen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Half-the-Gap/Bigotry of Soft Expectations?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ame approach to student groups, but different goal by 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Transparency for Parents?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rades (A to F and beyond); Color Flags; and Other Coding System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eight graduation rates, achievements gaps, and other factors get within an index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merican Typewriter"/>
              </a:rPr>
              <a:t>So-called “Super” Subgroup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Collapsing of student subgroup data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Masking subgroup-specific issu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e-emphasizing specific intervention for subgroup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Encouraging coasting with the curv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merican Typewriter"/>
              </a:rPr>
              <a:t>2013 Waiver of the Waive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States will be able to ask ED fo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Teacher-Principal Evaluation Paus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n extra year, until 2016-17, to use their new teacher and principal evaluation systems to inform personnel determinations; 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merican Typewriter"/>
              </a:rPr>
              <a:t>Regular Test or Field Test Option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bility to avoid double-testing students, which often happens during the shift to a new test, by allowing schools participating field tests of new tests to administer only one assessment in 2013-2014 to any individual student -- either the current statewide assessment or the field test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13:51:11Z</dcterms:created>
  <dc:creator>Daniel Herrera</dc:creator>
  <dc:description/>
  <dc:language>en-US</dc:language>
  <cp:lastModifiedBy>LULAC-T24</cp:lastModifiedBy>
  <cp:lastPrinted>2013-02-13T13:26:44Z</cp:lastPrinted>
  <dcterms:modified xsi:type="dcterms:W3CDTF">2013-06-27T01:14:51Z</dcterms:modified>
  <cp:revision>53</cp:revision>
  <dc:subject/>
  <dc:title>Case Study:  The Fatal Beating of  Luis Ramirez</dc:title>
</cp:coreProperties>
</file>