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DBCB-3BB3-4B0F-9BD4-14EC20F2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ADF6-F6EF-428C-A4AF-58E6AC54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78188-8D3C-41B6-AE6A-64F67462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BDE4-A4A3-4117-9298-560250E6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4998-994F-49F6-BCE8-17D65701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EF47-0D6A-4508-B09A-D0D4DC9A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6931-D9C1-489D-A243-2A9AFB82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7DE2-B1B6-4FC3-8C19-C7A619B8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4EE4-61EB-4D4A-B3AF-0227DFD4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C4C8-06C9-4BC7-B38C-80330199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AC13-D0D3-417E-832F-7C3C156B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3675-C47E-4A01-BA1C-C8A2F01F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A5FC-9ED6-4B6E-B30D-4B7BFF0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B300-6899-40B4-A88A-61CD58A2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26CD-D2EF-470D-BC39-20E080A0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58AB-0C1D-4389-AEED-6CE56203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2E5C-6332-40BB-B2EA-9170A6AA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3B6C-E134-4B3D-8687-8A43C53D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B740-9B01-4575-856C-69631F11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45DC-8D25-429F-8879-017850FA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8CB95-837F-4126-95B9-70194FB2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2196B-2214-4446-92ED-A6B1C021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8A8F-B74A-4D05-AFDA-2FB363DA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6125-8095-4601-96E8-C4A4DDEE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EF23-13A7-4537-8687-C58BAA98D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426B-C356-4494-9EBB-8086DC9E6B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American Typewriter"/>
              </a:rPr>
              <a:t>ESEA: “The” Federal Role in K-12 Education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914400"/>
            <a:ext cx="7315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1965: 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focus:</a:t>
            </a: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disadvantaged stud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1968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dded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migrant students and EL stud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merican Typewriter"/>
              </a:rPr>
              <a:t>1973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In </a:t>
            </a:r>
            <a:r>
              <a:rPr b="0" i="1" lang="en-US" sz="1800" spc="-1" strike="noStrike">
                <a:solidFill>
                  <a:srgbClr val="ffffff"/>
                </a:solidFill>
                <a:latin typeface="American Typewriter"/>
              </a:rPr>
              <a:t>San Antonio v. Rodriguez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no right to an education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1978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focus school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-wide spend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1981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introduced consolidation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nd block gra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1988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standardized tests to measure student perform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merican Typewriter"/>
              </a:rPr>
              <a:t>1994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dded </a:t>
            </a: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waivers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 and “continuous improvement” content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standard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merican Typewriter"/>
              </a:rPr>
              <a:t>2002:</a:t>
            </a: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 NCLB approach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uniform accountability (100% AYP by 2014);  measure of basic skills (AMOs on reading, math, and  ELP); subgroup student data; HQT; SES; school choice; turnaround mod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62485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2743200" cy="216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ffff00"/>
                </a:solidFill>
                <a:uFillTx/>
                <a:latin typeface="American Typewriter"/>
              </a:rPr>
              <a:t>Range of Responses to NCLB Balloon Payments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00400" y="60948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merican Typewriter"/>
              </a:rPr>
              <a:t>All states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facing  </a:t>
            </a:r>
            <a:r>
              <a:rPr b="0" lang="en-US" sz="1600" spc="-1" strike="noStrike">
                <a:solidFill>
                  <a:srgbClr val="ffff00"/>
                </a:solidFill>
                <a:latin typeface="American Typewriter"/>
              </a:rPr>
              <a:t>NCLB “balloon payments”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in 2013-14 (with almost half back loading)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merican Typewriter"/>
              </a:rPr>
              <a:t>All students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proficient in ELA and math; and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merican Typewriter"/>
              </a:rPr>
              <a:t>All schools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making AYP by 2014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2011 Senate </a:t>
            </a:r>
            <a:r>
              <a:rPr b="0" i="1" lang="en-US" sz="1600" spc="-1" strike="noStrike">
                <a:solidFill>
                  <a:srgbClr val="ffffff"/>
                </a:solidFill>
                <a:latin typeface="American Typewriter"/>
              </a:rPr>
              <a:t>bipartisan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ESEA reauthorization rejected by civil rights organizations because of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hift from </a:t>
            </a:r>
            <a:r>
              <a:rPr b="0" lang="en-US" sz="1600" spc="-1" strike="noStrike">
                <a:solidFill>
                  <a:srgbClr val="ffff00"/>
                </a:solidFill>
                <a:latin typeface="American Typewriter"/>
              </a:rPr>
              <a:t>100% accountability with interventions for all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to </a:t>
            </a:r>
            <a:r>
              <a:rPr b="0" lang="en-US" sz="1600" spc="-1" strike="noStrike">
                <a:solidFill>
                  <a:srgbClr val="ffff00"/>
                </a:solidFill>
                <a:latin typeface="American Typewriter"/>
              </a:rPr>
              <a:t>undefined annual progress goals and interventions for some (capped by percentages)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2013 Senate and House </a:t>
            </a:r>
            <a:r>
              <a:rPr b="0" i="1" lang="en-US" sz="1600" spc="-1" strike="noStrike">
                <a:solidFill>
                  <a:srgbClr val="ffffff"/>
                </a:solidFill>
                <a:latin typeface="American Typewriter"/>
              </a:rPr>
              <a:t>partisan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reauthorization attemp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In late-2011, the Obama Administration “We Can’t Wait”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The country is on track to see </a:t>
            </a:r>
            <a:r>
              <a:rPr b="0" lang="en-US" sz="1600" spc="-1" strike="noStrike">
                <a:solidFill>
                  <a:srgbClr val="ffff00"/>
                </a:solidFill>
                <a:latin typeface="American Typewriter"/>
              </a:rPr>
              <a:t>82% of its schools labeled ‘failing’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this year”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2438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2743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 u="sng">
                <a:solidFill>
                  <a:srgbClr val="ffff00"/>
                </a:solidFill>
                <a:uFillTx/>
                <a:latin typeface="American Typewriter"/>
              </a:rPr>
              <a:t>Waiver Authorit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Section 9401 of ESEA grants the ED Secretary has authority to issue waivers of certain requirements of ESEA for states and local education agencies for up to 4 year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Section 9401, however, does NOT allow the ED Secretary to waive requirements related to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Maintenance of effort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omparability of services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Supplement, not supplant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Parental participation and involvement; an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ivil rights requirements like Title III (ELL students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In 9/2011, ED invited states to submit flexibility applications, under set guidelines, to waive 10 aspects of ESEA law and regulations including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Extending AYP Balloon Payments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Concentrating School Improvements Corrective Action at the Bottom; 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Fostering Next Generation Teacher Evaluation Systems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merican Typewriter"/>
              </a:rPr>
              <a:t>ESEA 2011 Flexibility Bargain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2286000"/>
          <a:ext cx="8229600" cy="4079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merican Typewriter"/>
                        </a:rPr>
                        <a:t>Replace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a5c6de"/>
                      </a:solidFill>
                    </a:lnL>
                    <a:lnR>
                      <a:noFill/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solidFill>
                      <a:srgbClr val="aaca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merican Typewriter"/>
                        </a:rPr>
                        <a:t>With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5c6de"/>
                      </a:solidFill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solidFill>
                      <a:srgbClr val="aacae2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Current AMOs toward 2013-14 AYP deadline and annual report cards cast in terms of AY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a5c6de"/>
                      </a:solidFill>
                    </a:lnL>
                    <a:lnR>
                      <a:noFill/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New “ambitious, but achievable” AMOs in ELA and math aligned with College- and Career Readiness standards and assessments and revised reports cards cast  in terms of new AM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5c6de"/>
                      </a:solidFill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School improvement, correct action, and restructuring sanctions and repor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-and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Funds used for Public School Choice and Free Tutoring Servic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a5c6de"/>
                      </a:solidFill>
                    </a:lnL>
                    <a:lnR>
                      <a:noFill/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Investments in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merican Typewriter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merican Typewriter"/>
                        </a:rPr>
                        <a:t>Priority School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(lowest performing 5%) with Turnaround Princip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merican Typewriter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merican Typewriter"/>
                        </a:rPr>
                        <a:t>Focus School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(10 percent with largest achievement gaps between subgroups or HS graduating fewer than 60% of student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merican Typewriter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merican Typewriter"/>
                        </a:rPr>
                        <a:t>Reward School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(high performing or high progress school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5c6de"/>
                      </a:solidFill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HQT improvement pla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a5c6de"/>
                      </a:solidFill>
                    </a:lnL>
                    <a:lnR>
                      <a:noFill/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More meaningful” evaluation teacher evaluation systems and supports based on student 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5c6de"/>
                      </a:solidFill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800" spc="-1" strike="noStrike" u="sng">
                <a:solidFill>
                  <a:srgbClr val="ffff00"/>
                </a:solidFill>
                <a:uFillTx/>
                <a:latin typeface="American Typewriter"/>
              </a:rPr>
              <a:t>Three Rounds of 2011Waiver Application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Of 53 SEAs, 47 states and DC, PR, and the Bureau of Indian Education applied (VT withdrew and IA rejected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Nov. 20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Feb. 2012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Sept. 2012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Blue = Approve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Green = Pendin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Range of Applications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Implementation “Details”: 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NM w/ 3 pages to MN with 37 page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Professional Development: 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GA’s multiple year through TV and FL/NM’s new teachers firs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Exiting Priority Status: 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MA’s multiple measures and MN’s out of bottom quartile for 2 years in a row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EL Students: 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CO’s English language proficiency in new accountability index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Graduation Rates: 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IN 30% of index to KY 14% of index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4197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merican Typewriter"/>
              </a:rPr>
              <a:t>5 Main Concerns with 2011 Waiv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440" y="990360"/>
            <a:ext cx="8001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merican Typewriter"/>
              </a:rPr>
              <a:t>Under-engagement</a:t>
            </a:r>
            <a:r>
              <a:rPr b="1" lang="en-US" sz="1600" spc="-1" strike="noStrike">
                <a:solidFill>
                  <a:srgbClr val="ffff00"/>
                </a:solidFill>
                <a:latin typeface="American Typewriter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Negligible engagement with civil rights and minority communities prior to applica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merican Typewriter"/>
              </a:rPr>
              <a:t>Under-representation</a:t>
            </a:r>
            <a:r>
              <a:rPr b="1" lang="en-US" sz="1600" spc="-1" strike="noStrike">
                <a:solidFill>
                  <a:srgbClr val="ffff00"/>
                </a:solidFill>
                <a:latin typeface="American Typewriter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dvocates for student groups missing from peer review panels except for special education and EL studen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merican Typewriter"/>
              </a:rPr>
              <a:t>Half-the-Gap/Bigotry of Soft Expectations?</a:t>
            </a:r>
            <a:r>
              <a:rPr b="1" lang="en-US" sz="1600" spc="-1" strike="noStrike">
                <a:solidFill>
                  <a:srgbClr val="ffffff"/>
                </a:solidFill>
                <a:latin typeface="American Typewriter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ame approach to student groups, but different goal by grou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merican Typewriter"/>
              </a:rPr>
              <a:t>Transparency for Parents?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Grades (A to F and beyond); Color Flags; and Other Coding System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Weight graduation rates, achievements gaps, and other factors get within an index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merican Typewriter"/>
              </a:rPr>
              <a:t>So-called “Super” Subgroups</a:t>
            </a:r>
            <a:r>
              <a:rPr b="1" lang="en-US" sz="1600" spc="-1" strike="noStrike">
                <a:solidFill>
                  <a:srgbClr val="ffffff"/>
                </a:solidFill>
                <a:latin typeface="American Typewriter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Collapsing of student subgroup data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Masking subgroup-specific issu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De-emphasizing specific intervention for subgrou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Encouraging coasting with the curv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merican Typewriter"/>
              </a:rPr>
              <a:t>2013 Waiver of the Waiver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States will be able to ask ED fo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merican Typewriter"/>
              </a:rPr>
              <a:t>Teacher-Principal Evaluation Paus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n extra year, until 2016-17, to use their new teacher and principal evaluation systems to inform personnel determinations; an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merican Typewriter"/>
              </a:rPr>
              <a:t>Regular Test or Field Test Option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bility to avoid double-testing students, which often happens during the shift to a new test, by allowing schools participating field tests of new tests to administer only one assessment in 2013-2014 to any individual student -- either the current statewide assessment or the field test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13:51:11Z</dcterms:created>
  <dc:creator>Daniel Herrera</dc:creator>
  <dc:description/>
  <dc:language>en-US</dc:language>
  <cp:lastModifiedBy>LULAC-T24</cp:lastModifiedBy>
  <cp:lastPrinted>2013-02-13T13:26:44Z</cp:lastPrinted>
  <dcterms:modified xsi:type="dcterms:W3CDTF">2013-06-27T01:14:51Z</dcterms:modified>
  <cp:revision>53</cp:revision>
  <dc:subject/>
  <dc:title>Case Study:  The Fatal Beating of  Luis Ramirez</dc:title>
</cp:coreProperties>
</file>